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27A-AC46-4597-AE63-D27DB87E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5CF-2D49-459C-B18F-AB812000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DFB-9D9A-46B5-B18B-D446C146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143-9E31-49E2-A550-221D0D86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65C-B524-4FE1-877F-59DD383D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F4B-1933-4B8D-AA20-72DE312F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691-049F-4A69-80E8-B3E9BB36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22C-66A8-495D-9BDF-95D0CD47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5A6D-2408-48B4-B0DE-C01F9D14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2DA-AD79-4BF6-9F21-1FF6D3EC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B6E-3F32-4AE3-BCC9-5C596913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881-D679-4C0F-AB0F-6E1205C7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B88F-1BAE-49BB-A8ED-CBA92517A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PTLpS3ZNiY&amp;feature=relate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68720" y="260280"/>
            <a:ext cx="10009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Georgia"/>
              </a:rPr>
              <a:t>THE ALCOHOL IN FR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ow drinking alcohol is considered in Fr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he legislation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uthorized rate of alcoh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tatistics and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 restric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 Franc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achelot law (2009), purchasing age of alcohol was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16. Now, the legal age to buy and consume alcohol is 18 years old. Indeed, because of this Law, it is illegal to sell alcoholic beverages to people under this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achelot Law: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specifies the terms of sale of alcohol to the minors and the incurred punishments by modifying the Public health code in its articles 93; 94; 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uthorizations and pena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France, the legal rate is 0,5 g of alcohol a liter of blood, which corresponds approximately to two standard glasses of w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unishments incurred in France for a person driving with a high alcohol level ar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For an alcohol level superior or equal to 0,5 and lower than 0,8g a liter of blood: a 135 Euros fine and the loss of six points on the driving lic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n alcohol level superior or equal to 0,8g a liter of blood: 2 years of detention, a fine which can reach 30 000 Euros, the seizure of the vehicle and the suspension of the driving lic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Statis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nsumption : In France, in 2009, 14 % of the people declared to drink alcohol every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ddiction : In France, 12,9% of the population in 2009  were likely to suffer from alcohol ad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 France by 2009, alcohol was responsible for 45 000 deaths a year, this is the second cause of " avoidable mortality " after  tobacco.  Alcohol would be at the origin of 16 % of the male deaths and of 3 % of the female dea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alcool_bis"/>
          <p:cNvPicPr/>
          <p:nvPr/>
        </p:nvPicPr>
        <p:blipFill>
          <a:blip r:embed="rId1"/>
          <a:stretch/>
        </p:blipFill>
        <p:spPr>
          <a:xfrm>
            <a:off x="4859280" y="3429000"/>
            <a:ext cx="3571920" cy="268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pourcentage"/>
          <p:cNvPicPr/>
          <p:nvPr/>
        </p:nvPicPr>
        <p:blipFill>
          <a:blip r:embed="rId2"/>
          <a:stretch/>
        </p:blipFill>
        <p:spPr>
          <a:xfrm>
            <a:off x="6372360" y="1268280"/>
            <a:ext cx="2409840" cy="1808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ff0066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rev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76360" y="1052280"/>
            <a:ext cx="5616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In our country, we find more and more associations and campaigns to fight against alcohol. A lot of advertisements have been created to increase public awareness of the alcohol issue to limit the number of victims, especially in road accidents caused by alcoh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33"/>
                </a:solidFill>
                <a:latin typeface="Comic Sans MS"/>
              </a:rPr>
              <a:t>    </a:t>
            </a:r>
            <a:r>
              <a:rPr b="0" lang="fr-FR" sz="2400" spc="-1" strike="noStrike">
                <a:solidFill>
                  <a:srgbClr val="333333"/>
                </a:solidFill>
                <a:latin typeface="Comic Sans MS"/>
              </a:rPr>
              <a:t>Example of advertising campaign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www.youtube.com/watch?v=IPTLpS3ZNi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33"/>
                </a:solidFill>
                <a:latin typeface="Comic Sans MS"/>
              </a:rPr>
              <a:t>«  Sam : Celui qui conduit c’est celui qui ne boit pas  » The one who isn’t drunk will dr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sam_1"/>
          <p:cNvPicPr/>
          <p:nvPr/>
        </p:nvPicPr>
        <p:blipFill>
          <a:blip r:embed="rId2"/>
          <a:stretch/>
        </p:blipFill>
        <p:spPr>
          <a:xfrm>
            <a:off x="179280" y="1413000"/>
            <a:ext cx="303552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5:42:23Z</dcterms:created>
  <dc:creator>admin10</dc:creator>
  <dc:description/>
  <dc:language>en-US</dc:language>
  <cp:lastModifiedBy>CB</cp:lastModifiedBy>
  <dcterms:modified xsi:type="dcterms:W3CDTF">2011-02-05T08:23:54Z</dcterms:modified>
  <cp:revision>22</cp:revision>
  <dc:subject/>
  <dc:title>The alcohol in France</dc:title>
</cp:coreProperties>
</file>